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301-48EE-4F6B-A1C1-B286DA05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63F-5406-46BD-9BB2-C899639D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D6172-2C9B-490C-AF48-44D782E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636A0-B62C-427B-A560-0069DBA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DBBA5-BF21-4BCB-9661-6B50D4A0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ABBA8-BFF1-44A4-B6F5-7456336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1B752-ACFA-479E-AEB2-C59B268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7CCEF-990E-467E-BACD-FE452A1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14C22-FA0F-4A0A-8C3A-F668A74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5E92-00BC-40C1-BD1D-D82DF978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0B23E-A037-4240-9B83-0574EFE0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8C93F-2A1C-4095-B2AD-4B6FFF94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242-327D-454D-A16F-BB99A236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99496-FDAD-41D9-A9CD-53C7A19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37C61-BB45-4808-9579-8853388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F9604-79BD-4232-A108-F1DC769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EC6FD-A2A7-4BE1-92C2-1CCB68A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CA265-5148-4738-8EA2-724861D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82A35-E528-470A-A1DB-4395CF6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2FAB-8336-478B-8604-66E37B2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44212-2539-4A64-9F16-4426DDF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F3A75-6DAA-40E8-8A08-98F12EE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D256D-68FC-4E8E-8C73-6EEE938B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784-56EE-4F3C-AC30-01540F3E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60C2C-B5AD-4340-A44E-748834D9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8DF41-1A40-4FF7-AC7E-10581D1D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75491-59C5-45EA-A4BA-D4514D18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6DB6F-AF2A-404E-A793-D3E4084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DD477-E0EB-47BB-B6F9-33DE3A4B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E145E-E173-4D64-865A-424E078B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122B2-2660-412E-8EAE-EE73DC3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082B-C191-4860-9C3A-68B661FD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06B8E-D6DC-4FA7-8ACD-CCF4027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F145-5A3A-4849-A214-4A7FC0B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C275-BF90-4C06-87FF-B37F7803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4386C-1678-457B-8469-12D14143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3DEF0-345F-4886-AE4E-95A44F70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C3E9B-C10F-480B-B4AE-34DD5DD2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0D049-7B7A-4F09-8227-10581BA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764C-E0E6-4466-A57C-5B77E359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7C996-E59E-4317-AF18-5AC689CA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93FE8-3C52-4C99-A83F-39646B3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F315E-ACE9-4CC5-B18E-493F9CF3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EB0D2-CDC0-4118-B46C-2F537A7B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8C7C4-91B2-485A-AD3B-3AFEDF6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6286-CB59-40D7-9362-C621900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A9171-B495-4171-A6C3-58EF2CA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BF460-2C43-47C9-8397-97C409C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8A86B-D73D-447B-9568-08EC906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C3A12-8E70-4F2C-B1B7-FF0285CB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C2E56-F19C-4252-A0C5-9D0AAA0F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EDFCE-F0D0-4821-9AD0-6D997D42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E2D5B-7FC3-4B62-9026-ADE639B8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91E27-FE60-4FA3-BE5D-8AAAF5CE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D5FB2-F803-4749-8D4B-45F7421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EC825-35BD-43A2-A9AC-8C7ADC02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6CCE-7CB4-4A46-926C-5E043B5E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20C5E-37F9-4FCB-8611-19D324AA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3AC97-C440-420C-8D73-C2B6DC8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1A69E-4461-4C8F-A9E8-EBFD053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E022F-48CD-4105-9146-5BFB398C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1D2A4-96FE-4151-82B0-9E4C9E81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6F131-C399-46FF-9FB4-9CF2B9AE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9AAF4-74EF-4F68-B587-B868A5CD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08EDF-E5BB-4DF5-ABAE-0EA9E661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23840-67AB-4218-AE67-7542CF5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8027F-7482-4B6D-AE00-726BE3AF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D297-026B-4D16-8477-8D364B9A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3B533-4554-473D-B780-EB88F530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37CCF-DA6A-49A4-BBE1-CB06D434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C05DA-B244-44DE-8863-5334683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3EBA8-D515-4C97-A9C1-8B996FC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E7321-99D7-43BE-BB00-634349BC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50C29-34B9-4078-A1C0-E706B8E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08351-1E42-4F93-A430-BA3C8B6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D65EB-FB94-4E86-9175-36384B41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168B6-4728-4001-A252-6BB9EB32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60FDE-1134-4D64-88CF-7EF5707A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AB14-766E-4F9B-B691-08149585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C56AE-327F-431B-A9AC-63CAF11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BDA2F-7318-4F97-9230-07A272AE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42BA3-653B-451E-9151-327CCE4F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44C9D-0A9F-4015-AF30-736FD7C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812E6-EB1D-4CB3-AAE3-C23B118B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60C1A-230D-43ED-AC39-D7D9DE9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0C03A-B404-4932-A518-1070F4A1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15CB8-FAF9-4F3E-84AD-55A1A50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6597C-35D5-45EC-802A-D5EA82A1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F9022-5196-4B64-AC30-22852A82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7D94-DB24-4565-B797-2173C72D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588D3-1CE7-4A85-96BF-CF97D617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0A615-9F54-4FAE-B420-0D06BAFB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7F4C2-727F-4F3B-9D10-17F6DE9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951535-2BFE-41FB-B2F0-C6BF3EC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1D850-DE22-4EC2-9DC3-324FEC0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E69FB-FB9C-4A4B-9309-AD07C76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C4D97-43BA-45CF-BD4D-2A790265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3FDEE-B862-4533-9C94-8F4D7A7B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9BD75-69FB-4C3F-9528-A31A71A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DBDAB-8540-4066-B5A1-5F4F47A0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55B2-304D-4804-A69A-628B672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3D54D-5CF2-4AC0-BDA8-7698D262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29FF9-F61C-4964-B71F-07AD3045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39F38-260B-4396-A54F-4BF41704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EBF4B-939F-459C-B3D5-006F8715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68BF7-5AD1-4FEB-86D2-E2905CA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87BB8-09E7-4776-84A0-1479B85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FC64F-3330-4BCC-8272-D4AF804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AA7CC-44AF-491B-B26D-997C0D76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941C6-AEF7-485F-A09A-0939487A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FE859-0272-46F9-819A-9E6E494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FE3-5EF5-4EDB-8BE8-79735C8C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EDF6-49A2-4C5D-9C81-E7F2E4B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D931A-92B9-43F7-9AD4-0D5CE12E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CFDB6-C41E-479A-9F98-70C4086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8538B-6C41-4B43-AA75-621D7E5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945C8-D984-48AC-B7D5-12B8EC41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D0D68-9A49-4EF7-AF35-F5812E53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10D18-1B4F-46F5-B4F0-54C734A2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248EA2-C18A-425B-A05F-468446B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F2C08-A9AE-4072-BD64-0AF737C2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75451-C599-4155-9882-59AA67A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EDC70-A251-4CBB-A0FD-5BC01F6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383C-9BF7-4ED5-A8D8-50C60CC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47E33-065C-4146-8219-E776C62C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B2049-A19F-49DC-ABC0-F815441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58A93-3B96-4B48-B304-A41EC91F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F3ABD-E3D1-40F4-910E-F3DB2DB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D2970-3C66-4876-B8F6-7DB4EEA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A7093-0E49-47DE-96E1-5BED6F66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2C5E6-131E-4DCD-9411-B90F6AB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A2B44-174E-4E8B-9593-F94AF0B5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D18E0-F707-46D2-B502-76AF42E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4EDC3-B6BE-4EB5-A92A-3AAD075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F5B-46DC-4C0B-9DF4-A83BB1AF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C5F07-E578-4400-9937-13BB2F21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EB0EA-ED81-4853-A812-9139F7F3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79476-5CC4-4C1E-A1FF-5E7CEB04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2E676-2BED-4F0F-AA58-AD16221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A4E8E-797E-4BBA-A21F-7AD6A55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09762-7C75-414D-8B27-F1F68D4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D886C-A074-474D-AC9B-1F04F90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CB9D8-A867-43F7-82DD-8E5EE1CC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08B77-FB49-4E42-93C8-9988C4F9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96777-9022-43C1-ADDC-518CC4DA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765-AD4E-4055-A0A1-2D12165D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98CCA-7EE8-46F3-BE72-D90AADB6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7868E-D284-4FE7-96A3-E6F6A718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14AD11-FAF2-4FE9-8B33-3925245F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2596B-40DC-4C4A-AC6F-7E3522F9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4CE25-D98B-418D-ADD8-288D9B6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F1E67-FC25-4EEA-AF5B-9BE57DA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F0E71-6DC0-47C5-8CA0-F9EFDA5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610D6-A826-4265-AE5B-A189DCA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77FDD-A319-4520-B189-115BFA04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1B9D4-7193-4DC8-8B4F-BE434C60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192-0B5F-4BB1-8B01-4F598C49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D2D72-C77E-451A-AF72-CB7A772B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479FD-E7CC-45AB-BE3C-53F20640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E9EBD-9465-4EC8-941D-6E5AA995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BD342-A59D-43C5-8007-48C7B96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1FCE0-843E-474C-A998-5F2E578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709336-B135-4912-826F-EB6042E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7CDFC-F64D-4437-9C32-815B933A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F81D9C-68F4-473A-B31B-A833461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6F40C-253E-4D8D-9519-BD12E850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C1331-DC7B-4487-AD81-2108CB0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1431-4D81-4920-BB9D-11D52402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FB281-2BAF-470C-A49C-09008A3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72977-704B-411B-A120-60E28165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1C422-BD60-44CC-9C67-56825701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BA9B-F232-4B89-A154-4A1F0367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64BA-D63E-48E5-A3CC-DF1081E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8383-B253-485B-B36F-C5CFCC3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91A2-DFBA-4EFF-B0C1-3DCCDAE2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A97-8761-47E9-9319-49ACAC7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FF0F-8A9B-410B-8B83-79115DE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D77E-1515-4049-88C6-B968E89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CF0B-B977-4954-827B-ED206261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9F62-7A8C-458B-BB66-1618070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456E-7CC5-4828-9865-43D06CD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4D60-EB89-48A9-A1E2-F6557EC9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6765-DF31-4EAE-BFD7-9176F310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C875-6655-4E44-BC4A-1EC21C48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FFF4-916E-4087-8123-2151A416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5773-0F35-4F0C-BC1D-64458EB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CEA-493E-4DA6-8CCA-469EEE7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2916-FE78-44CB-9EAA-DB40197B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D9F1-44B7-42A4-9D52-4E234E5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39C7-4B16-4D6B-A91B-7940C49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3FD7-DFA3-43DE-9F86-1FEB8312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2B9B-30B4-4B50-927E-EE1E6DD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0CB0-7B69-4148-945B-CA7BF65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A1BE-E147-4D0F-8D3E-5D907BE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6FB2-4274-44A6-80BC-1656A0ED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F00D-8247-4B02-B37D-71DC16B3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681B-63A3-44A5-95A2-0773462B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A46-FF1F-43A9-89D9-656EEC7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195D-FF34-4E11-B418-6F9BD26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037EC-91FD-459C-83A1-17CA32C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1F18-1763-4CDD-B033-3805B87A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F8D0-C968-4EF7-94AA-7CC70C9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5B84B-F5D7-4465-92F1-27EE03D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5A86-5703-4383-B2E4-4002231A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39821-6237-4959-8E83-8542F8C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D94E-00CC-458D-95A1-2611F6EF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38C1-0A91-4369-BC48-513CDFE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0D7C-49C7-4684-864A-8524B66D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725-A03D-4BD9-AA44-B8B7E8BC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4F68-98C0-4104-8A90-A4F88488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DF30-8AAA-4920-92DD-3A3880FA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938D9-34A4-4201-88C6-240D888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924C-EB98-48E2-8E84-DEFD678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8E59-39E4-4662-8B94-703D12AA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1136-043C-40E3-B255-D8FD4BF7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2919-B447-4805-8B79-E383551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AB4A1-3875-4ADE-B0B9-460F4DF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EB4B-3D5F-46A7-986E-634475B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14A0-A896-4765-A9EE-59690FD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1D3-34D1-44E6-9E65-7D4747F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922D-EAC1-4E00-A19C-15B411F3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B9904-3D4C-4D03-BBBF-48E52D49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4DDC-4365-4522-9793-0861A6E7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6B11-1063-43E2-8963-777BBEB8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F76E-CAD5-47B5-A324-0F61869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AB00-DD2E-494A-BEDE-AB8B2CC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308A0-E4E5-430F-8CA0-2A3B9BEB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DD3B-F606-4C9C-8F09-8B85922A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DB1C-BC50-4DF8-B530-7E7A8012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CDBC7-94BD-454C-811D-FC04C23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F08-2273-4A86-8BFB-451F801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C917-5928-4E2E-A510-91A5F99F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582A-5A76-4809-89BC-2C0555B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DEB2-B17E-49A1-BA3B-13D5256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701F-A100-4998-AF1E-D8CCA24D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AAED-434A-4661-8E80-AEA40695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EAE3A-7EE7-49AB-9506-43DAB11E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3A336-E5DC-4724-81C9-80239B58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B018-8C97-4C50-B961-6E1A412C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9FC7-3DCC-41DC-A871-2122AF0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455E1-C14C-4976-A9C2-8088C80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7E8-A945-45B3-B8E2-CFDA8F1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7FA8-690A-4A75-B08B-A0AD0882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CBED5-B4B9-4DA2-B0E9-616D170F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A4A9D-7652-4787-BA48-CC7C4972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AEAE-368A-4EAA-81F1-89226DA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3AD5-90C3-463B-929B-6FC00763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A395E-D1E8-4483-A795-C57369B2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B9A36-3CC7-4669-8A15-B0B30780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2F8BE-6EE7-482A-905B-4E0F6FC0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CC595-402F-41A1-8637-13C0EFCD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EC4A7-17EA-4257-B8FA-B364E1C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61B6-A993-4ADD-9B39-02AB0A720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294-56EA-464C-A979-045288D03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0D89-9AA5-439C-9780-092C47360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D56E-E950-4E15-A967-9B550CABC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7F5-286D-4C9B-B4A0-2E6BD36DC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9FE7-9550-4CD1-8884-85BB370BC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A18-0AC2-4471-939C-2A202B317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9C1-6B18-413F-B115-89AEDBAF6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395-31D9-4292-9FFF-F39475903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202-0609-412C-8885-E4A0FE16B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E88-3A4E-47A2-8F67-D0B5164C6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369-0EE1-411E-ADF5-7FFDD819F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189B-DF8C-4B90-831B-1670263EA5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693-CA80-43CC-B1ED-14A9C8FC8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0540-CC8C-4F97-B64C-E0017D27E5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707-065F-48C4-82B5-6DD62EF8D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2A6-3B0D-488C-A69B-9538EA358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9A3E-059B-4CB3-99EC-7C678A7BB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4D4C-BA6E-4FBB-AD5A-5CE9BD2E0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642-BF9F-47A3-84B5-76E9A4394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D452-C47B-4AE1-AE81-53E8BE822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098D-4235-4E86-8C30-FDE65BF95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E3C3-01A5-43C4-8037-584A37156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6D9-1FFB-44B0-A102-D93EA93C3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F74D-6D1D-4170-BF11-F787BB5658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075-3FD5-4192-AF6F-D2A40B8C3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E1C-CD94-4B55-ACF5-D18504D6A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04D-C3E0-4E0F-9A19-3728B3D45C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855F-7A24-4900-9C3F-AB5230A1E3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B1F6-610D-4298-9409-C5254E6F7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A7E-2413-4BDD-B0C5-2DC76770F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DC2-448E-45BD-834C-F9E1EB6AD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28EA-7443-44CB-BAE1-1774D772C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F069-9F7E-4907-B3AF-0490F8A5B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0503-CF0B-4226-A076-A066FC231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BC7E-C7E5-4692-803D-C4FCA10AC7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D40-56CE-4097-96D6-22E6DD322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9DB-D9D9-44E1-9654-31AD6AF98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639-8C64-4193-BB02-C095E831E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EBF5-83B4-4DD0-BB05-BA7B6335F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76200" y="2952720"/>
            <a:ext cx="8391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190440" y="1857240"/>
            <a:ext cx="8763120" cy="3143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755640" y="257976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324000" y="3156120"/>
            <a:ext cx="5040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5040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395280" y="4379760"/>
            <a:ext cx="504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8609" descr=""/>
          <p:cNvPicPr/>
          <p:nvPr/>
        </p:nvPicPr>
        <p:blipFill>
          <a:blip r:embed="rId1"/>
          <a:stretch/>
        </p:blipFill>
        <p:spPr>
          <a:xfrm>
            <a:off x="262080" y="774720"/>
            <a:ext cx="8619840" cy="6039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338616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82436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826920" y="5056200"/>
            <a:ext cx="48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900000" y="566100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684360" y="6237360"/>
            <a:ext cx="63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7585" descr=""/>
          <p:cNvPicPr/>
          <p:nvPr/>
        </p:nvPicPr>
        <p:blipFill>
          <a:blip r:embed="rId1"/>
          <a:stretch/>
        </p:blipFill>
        <p:spPr>
          <a:xfrm>
            <a:off x="633240" y="1728720"/>
            <a:ext cx="7877520" cy="3400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942840"/>
            <a:ext cx="8544240" cy="4972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95640" y="5343480"/>
            <a:ext cx="1655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52600" y="1380960"/>
            <a:ext cx="8038800" cy="4096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924360" y="25938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763640" y="378936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6227640" y="501336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590400" y="2257560"/>
            <a:ext cx="7963200" cy="2342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619280" y="4062240"/>
            <a:ext cx="2089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228600" y="1319040"/>
            <a:ext cx="8686800" cy="4219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96360" y="2637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66764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667640" y="50277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590400" y="2243160"/>
            <a:ext cx="7963200" cy="237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7308720" y="28098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308720" y="40194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252360" y="690480"/>
            <a:ext cx="8639280" cy="547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826920" y="4522680"/>
            <a:ext cx="80661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5302" descr=""/>
          <p:cNvPicPr/>
          <p:nvPr/>
        </p:nvPicPr>
        <p:blipFill>
          <a:blip r:embed="rId3"/>
          <a:stretch/>
        </p:blipFill>
        <p:spPr>
          <a:xfrm>
            <a:off x="1677960" y="2548080"/>
            <a:ext cx="1952640" cy="209520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5303" descr=""/>
          <p:cNvPicPr/>
          <p:nvPr/>
        </p:nvPicPr>
        <p:blipFill>
          <a:blip r:embed="rId4"/>
          <a:stretch/>
        </p:blipFill>
        <p:spPr>
          <a:xfrm>
            <a:off x="4272120" y="2679840"/>
            <a:ext cx="1676160" cy="1780920"/>
          </a:xfrm>
          <a:prstGeom prst="rect">
            <a:avLst/>
          </a:prstGeom>
          <a:ln w="0">
            <a:noFill/>
          </a:ln>
        </p:spPr>
      </p:pic>
      <p:grpSp>
        <p:nvGrpSpPr>
          <p:cNvPr id="943" name="组合 55307"/>
          <p:cNvGrpSpPr/>
          <p:nvPr/>
        </p:nvGrpSpPr>
        <p:grpSpPr>
          <a:xfrm>
            <a:off x="6630840" y="2492280"/>
            <a:ext cx="1476360" cy="2016360"/>
            <a:chOff x="6630840" y="2492280"/>
            <a:chExt cx="1476360" cy="2016360"/>
          </a:xfrm>
        </p:grpSpPr>
        <p:pic>
          <p:nvPicPr>
            <p:cNvPr id="944" name="图片 55304" descr=""/>
            <p:cNvPicPr/>
            <p:nvPr/>
          </p:nvPicPr>
          <p:blipFill>
            <a:blip r:embed="rId5"/>
            <a:stretch/>
          </p:blipFill>
          <p:spPr>
            <a:xfrm>
              <a:off x="6630840" y="2765520"/>
              <a:ext cx="147636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1" descr=""/>
            <p:cNvPicPr/>
            <p:nvPr/>
          </p:nvPicPr>
          <p:blipFill>
            <a:blip r:embed="rId6"/>
            <a:stretch/>
          </p:blipFill>
          <p:spPr>
            <a:xfrm>
              <a:off x="7236000" y="2492280"/>
              <a:ext cx="57600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1" descr=""/>
            <p:cNvPicPr/>
            <p:nvPr/>
          </p:nvPicPr>
          <p:blipFill>
            <a:blip r:embed="rId7"/>
            <a:stretch/>
          </p:blipFill>
          <p:spPr>
            <a:xfrm>
              <a:off x="7164360" y="4164120"/>
              <a:ext cx="576360" cy="34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755640" y="5143680"/>
            <a:ext cx="80661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684360" y="5689440"/>
            <a:ext cx="806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285840" y="690480"/>
            <a:ext cx="8572320" cy="54770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4277" descr=""/>
          <p:cNvPicPr/>
          <p:nvPr/>
        </p:nvPicPr>
        <p:blipFill>
          <a:blip r:embed="rId2"/>
          <a:stretch/>
        </p:blipFill>
        <p:spPr>
          <a:xfrm>
            <a:off x="1274760" y="2630520"/>
            <a:ext cx="7343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285840" y="1019160"/>
            <a:ext cx="8572320" cy="4819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1782720"/>
            <a:ext cx="4824360" cy="925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755640" y="2838600"/>
            <a:ext cx="331164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84360" y="3443400"/>
            <a:ext cx="3311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2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